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0AC-FB09-4666-817D-132DA3AB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E46-FA19-4DCA-B780-F13E533C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8A9-C49C-4C45-A76D-F410EB33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A2F-EA35-42B9-ACD2-FBC9EF71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BE5-E087-4D21-84F8-FCDDD74D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A7E-3CC1-4B13-B4A2-4D223718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2CB-196C-48F4-85B7-7BA1ED0C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012-0E29-43A4-9495-41E3A5DD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14C-6E6B-41C2-B8C8-0FEC5688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83C-052F-47EC-8A5B-0FF8EDEF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637-548F-4C27-991D-06FB2DBF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CC8-ADA1-4976-8C09-D306C821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8377-DC7C-4360-862C-3A8ED956B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380880"/>
            <a:ext cx="6257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Rise of Big Busin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1447920"/>
            <a:ext cx="459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apitalis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137600" y="2209680"/>
            <a:ext cx="603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determines how much goods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how much workers are p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3200400"/>
            <a:ext cx="305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Horatio Alger Jr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46360" y="3657600"/>
            <a:ext cx="557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d no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ck &amp; Pluck series  (rags to riches the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8360" y="4537080"/>
            <a:ext cx="73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issez-faire Capit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Let the people choo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Gov’t involvement in economy (free enterpr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6360" y="563868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sm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owns everything, everyone i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3520" y="380880"/>
            <a:ext cx="32670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ndrew Carnegi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35800" y="1066680"/>
            <a:ext cx="735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.S.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tical Integration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 everything from start to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) mines, factories, shipping,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68160" y="2514600"/>
            <a:ext cx="3581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ohn D. Rockefelle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54600" y="3241800"/>
            <a:ext cx="78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 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izontal Integration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other company’s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) own ALL the oil refin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4648320"/>
            <a:ext cx="376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rnelius Vanderbil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5410080"/>
            <a:ext cx="39909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George Westinghous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George Pullma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876920" y="4800600"/>
            <a:ext cx="3943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ss Marke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95280" y="304920"/>
            <a:ext cx="620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bor strives to organiz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037600" y="1031760"/>
            <a:ext cx="503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monopolies growing 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Steel, Standard Oil,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taxes on im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2362320"/>
            <a:ext cx="483876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herman Antitrust Ac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1211040" y="2895480"/>
            <a:ext cx="674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utlawed monopolies &amp; trusts which restrained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id very little to change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4114800"/>
            <a:ext cx="6058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or working condit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521720" y="4800600"/>
            <a:ext cx="26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&amp;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i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380880"/>
            <a:ext cx="3086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Knights of Labo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7520" y="838080"/>
            <a:ext cx="525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, working for the rights of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r conditions, shorter days, more 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rance V. Powde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y Harris “Mother”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2514600"/>
            <a:ext cx="3648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he Great Upheaval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39640" y="2971800"/>
            <a:ext cx="60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strikes take place throughout the 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urn vio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ymarket Ri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archi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4191120"/>
            <a:ext cx="545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merican Federation of Labo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65840" y="4800600"/>
            <a:ext cx="51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ed workers separate from unsk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uel Gom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5791320"/>
            <a:ext cx="5467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Homestead &amp; Pullman Strik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2:27:51Z</dcterms:created>
  <dc:creator>nalbert</dc:creator>
  <dc:description/>
  <dc:language>en-US</dc:language>
  <cp:lastModifiedBy>nalbert</cp:lastModifiedBy>
  <dcterms:modified xsi:type="dcterms:W3CDTF">2006-03-31T16:57:30Z</dcterms:modified>
  <cp:revision>15</cp:revision>
  <dc:subject/>
  <dc:title>PowerPoint Presentation</dc:title>
</cp:coreProperties>
</file>